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A7283D-908A-4203-99CB-982D63327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B0C996-9767-400D-B3D7-CE761C671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brief notes througho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azon.com/Boy-Who-Harnessed-Wind-Electricity/dp/0061730327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2008/03/bringing-an-ol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ffee.geek.nz/olpc-viewfinders-made-repra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makezine.com/archive/2009/10/olpc_ox_controls_reprap_prints_ox_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sets/7215762245669364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n-disk.com/product_info.php/products_id/8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tedxmidatlantic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397558753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E441-4112-44D9-9B78-BB12134CF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4BD7-E1D3-47A7-A853-B1CF5D930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E387-D914-47B6-8B83-EC247ABAE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32DB-3B71-4524-B1C8-FF046D489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42E67-EEBE-425C-852A-533ED9F7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8B764-9099-458E-B4DE-54B95247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78D69-348B-4F52-9D61-AC2928CC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2A282-2770-4E74-A9EA-1A446727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D6606-71AA-4558-B905-2337A99A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7E76B-FEC8-4A74-8192-14681823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22E27-E15E-4602-B023-52EB3ED2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18CF-7E8E-4ECD-801A-CC88D0F5C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E6E89-95D2-45EF-ADB5-B766BA5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D3C2B-5F59-4886-B393-A036EFFA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BE7C9-4AF3-41B0-803E-496B7354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57534-C583-4333-9ADB-E293DFAA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E487E-941B-494D-B9C0-F003046A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AED9-3F61-4A78-9F60-D7E6233E5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8B81-5533-43C3-93AA-66D2BA480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288A-600C-4594-BD27-80B764A47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75C0-14F1-4E22-85E8-C197650CB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48DC-0676-44D0-BCBB-0AC4D0971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8391-2FB4-46EC-948F-2B6FF64CE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66F3-CA19-4847-A38E-EB3C2F88D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" y="1066680"/>
            <a:ext cx="9143640" cy="5435640"/>
            <a:chOff x="360" y="106668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28440" y="1066680"/>
              <a:ext cx="9115560" cy="5435640"/>
              <a:chOff x="28440" y="106668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17600" y="141588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3440" y="141588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8440" y="134136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0880" y="146196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0240" y="120636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08720" y="106668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1080" y="118116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2640" y="133812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3480" y="286848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2760" y="516240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7480" y="110808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1320" y="530856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5960" y="345420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" y="3284280"/>
              <a:ext cx="2193840" cy="2694240"/>
              <a:chOff x="360" y="328428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5760" y="580788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49680" y="58028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6840" y="57952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29040" y="580932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5840" y="5817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38320" y="581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1880" y="5812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3120" y="5785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4160" y="5790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6640" y="57981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6240" y="58060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6120" y="5721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68600" y="572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0720" y="5752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3200" y="5756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1560" y="56156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3680" y="5644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57960" y="5661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09720" y="5682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5400" y="54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2560" y="5515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79720" y="554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5440" y="557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1600" y="5338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3440" y="53683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87800" y="5399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6400" y="542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26840" y="51573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598040" y="5195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68160" y="52308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4680" y="5270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3280" y="4970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3120" y="5006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0800" y="5047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5880" y="5081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56880" y="4763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1400" y="48034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28800" y="4844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07560" y="4889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18800" y="4559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3320" y="4600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1880" y="4639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4240" y="46814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1760" y="4350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3200" y="4392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3200" y="4430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1760" y="447156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3040" y="4157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2040" y="41907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6720" y="4228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1400" y="4271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6080" y="3972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3360" y="401292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5960" y="4049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1800" y="408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4560" y="3816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4720" y="38433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88840" y="3878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09360" y="3905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6320" y="3673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39800" y="370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3560" y="3730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2360" y="3755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8240" y="371304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7760" y="462564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2880" y="463860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37480" y="3569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3840" y="358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1280" y="3607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2960" y="3627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48120" y="3494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0960" y="3507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6240" y="3517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6200" y="353736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27800" y="3447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1720" y="34560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19600" y="3463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67480" y="3470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5960" y="3444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3480" y="3441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1360" y="3436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0320" y="3439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0880" y="347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08760" y="34675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0960" y="3461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0280" y="34531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4360" y="3545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3680" y="3529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19760" y="3513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0800" y="3496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5400" y="36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99000" y="3638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3280" y="361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6120" y="359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5440" y="35766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-3240" y="4982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07120" y="5165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1480" y="408600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08080" y="417024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3560" y="58590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67680" y="585900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69160" y="582408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4760" y="5751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59840" y="5641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7000" y="549864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5360" y="53305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31680" y="36223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2400" y="35064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6320" y="33969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4280" y="339048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0360" y="343116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6640" y="35010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58800" y="36082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2800" y="374760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17640" y="39114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898280" y="40971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29960" y="4295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2040" y="4511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3800" y="494172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49160" y="514512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6040" y="462276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000" y="396540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0840" y="385272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1360" y="520380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8960" y="406080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2360" y="395604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920" y="5735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20" y="370044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20" y="574524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5160" y="472608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57200" y="343188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7440" y="531648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78480" y="5280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20" y="361800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6560" y="448092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"/>
          </p:nvPr>
        </p:nvSpPr>
        <p:spPr>
          <a:xfrm>
            <a:off x="8000640" y="6400440"/>
            <a:ext cx="841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2DD1-C6A4-438F-9DD7-F99701BA63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934-84AD-4F9C-8B82-4CB6C12C08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ee@aarp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mills, XO Reprap, Cambridge &amp; XtraOrdina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90360" y="4952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e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llaudet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rday, October 17,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2954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olpc_lc_dc_logo_one_line" descr=""/>
          <p:cNvPicPr/>
          <p:nvPr/>
        </p:nvPicPr>
        <p:blipFill>
          <a:blip r:embed="rId1"/>
          <a:srcRect l="4687" t="28007" r="9376" b="32004"/>
          <a:stretch/>
        </p:blipFill>
        <p:spPr>
          <a:xfrm>
            <a:off x="1905120" y="0"/>
            <a:ext cx="53337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 more 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mail Mike Lee at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Arial"/>
                <a:hlinkClick r:id="rId1"/>
              </a:rPr>
              <a:t>curiouslee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47A1-D91B-4DF2-85C8-D1EFF434DA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vorite recent read: The Boy Who Harnessed The W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 Olliver’s Reprap controlled by an XO-1 to print viewfi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from 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Lab S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isk XtraOrdinary SD card for the XO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827D-9DF7-46B8-BAB3-76545A4067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iam Kamkwamba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oy Who Harnessed The Wi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william_kamkwamba_500x_windguy" descr=""/>
          <p:cNvPicPr/>
          <p:nvPr/>
        </p:nvPicPr>
        <p:blipFill>
          <a:blip r:embed="rId1"/>
          <a:stretch/>
        </p:blipFill>
        <p:spPr>
          <a:xfrm>
            <a:off x="2519280" y="228600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398" name="william-kamkwamba-book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24120" cy="4114800"/>
          </a:xfrm>
          <a:prstGeom prst="rect">
            <a:avLst/>
          </a:prstGeom>
          <a:ln w="0">
            <a:noFill/>
          </a:ln>
        </p:spPr>
      </p:pic>
      <p:pic>
        <p:nvPicPr>
          <p:cNvPr id="399" name="william-kamkwamba-earlier-windmill" descr=""/>
          <p:cNvPicPr/>
          <p:nvPr/>
        </p:nvPicPr>
        <p:blipFill>
          <a:blip r:embed="rId3"/>
          <a:stretch/>
        </p:blipFill>
        <p:spPr>
          <a:xfrm>
            <a:off x="6629400" y="1657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00" name="meal_kamb" descr=""/>
          <p:cNvPicPr/>
          <p:nvPr/>
        </p:nvPicPr>
        <p:blipFill>
          <a:blip r:embed="rId4"/>
          <a:stretch/>
        </p:blipFill>
        <p:spPr>
          <a:xfrm>
            <a:off x="6629400" y="38862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7E33-30F2-488A-8448-D5B5963130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’s Blo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william_kamkwamba_blog_olpc_xo" descr=""/>
          <p:cNvPicPr/>
          <p:nvPr/>
        </p:nvPicPr>
        <p:blipFill>
          <a:blip r:embed="rId1"/>
          <a:stretch/>
        </p:blipFill>
        <p:spPr>
          <a:xfrm>
            <a:off x="1424160" y="0"/>
            <a:ext cx="62956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8A74-0926-4AF2-8ACB-B6EC589A41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Vic Olliver’s Reprap-made Viewfinder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4" name="vic_olliver_xo_viewfinders" descr=""/>
          <p:cNvPicPr/>
          <p:nvPr/>
        </p:nvPicPr>
        <p:blipFill>
          <a:blip r:embed="rId1"/>
          <a:srcRect l="7200" t="3198" r="2801" b="5601"/>
          <a:stretch/>
        </p:blipFill>
        <p:spPr>
          <a:xfrm>
            <a:off x="152280" y="125748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405" name="reprap_olpc_viewfinder_video" descr=""/>
          <p:cNvPicPr/>
          <p:nvPr/>
        </p:nvPicPr>
        <p:blipFill>
          <a:blip r:embed="rId2"/>
          <a:stretch/>
        </p:blipFill>
        <p:spPr>
          <a:xfrm>
            <a:off x="5943600" y="4011480"/>
            <a:ext cx="3200400" cy="28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1ED3-D6EB-4828-9AB3-F2FDB32240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s from Cambrid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218960"/>
            <a:ext cx="853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PCorps Students at 1CC last week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for jumpstart event in NYC mid-Nov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push to production of XO-1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t in Walter Bender’s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 meld with Caroline M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2716-DF35-4A81-A264-852CD6070D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Lab Sigh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9" name="bernoulli_wing" descr=""/>
          <p:cNvPicPr/>
          <p:nvPr/>
        </p:nvPicPr>
        <p:blipFill>
          <a:blip r:embed="rId1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10" name="media_lab_extension" descr=""/>
          <p:cNvPicPr/>
          <p:nvPr/>
        </p:nvPicPr>
        <p:blipFill>
          <a:blip r:embed="rId2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FC6C-1674-4881-A208-95C465315D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4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disk XtraOrdinary SD Card OS for the X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2" name="ondisk_XtraOrdinary_on_XO" descr=""/>
          <p:cNvPicPr/>
          <p:nvPr/>
        </p:nvPicPr>
        <p:blipFill>
          <a:blip r:embed="rId1"/>
          <a:stretch/>
        </p:blipFill>
        <p:spPr>
          <a:xfrm>
            <a:off x="0" y="915840"/>
            <a:ext cx="6781680" cy="5088240"/>
          </a:xfrm>
          <a:prstGeom prst="rect">
            <a:avLst/>
          </a:prstGeom>
          <a:ln w="0">
            <a:noFill/>
          </a:ln>
        </p:spPr>
      </p:pic>
      <p:pic>
        <p:nvPicPr>
          <p:cNvPr id="413" name="ondisk_sd_card" descr=""/>
          <p:cNvPicPr/>
          <p:nvPr/>
        </p:nvPicPr>
        <p:blipFill>
          <a:blip r:embed="rId2"/>
          <a:stretch/>
        </p:blipFill>
        <p:spPr>
          <a:xfrm>
            <a:off x="556272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A4A0-E06F-41BD-A2CD-DD0E57ABC4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pcom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s On After School, Fairfax VA, October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Dx Mid-Atlantic, Novemb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PC NYC Event, Tentatively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OLPC Learning Club meeting, ACC,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olpc_nyc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72FA-FCE4-475E-BAFE-B5E9186515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1:05:25Z</dcterms:created>
  <dc:creator>mik le</dc:creator>
  <dc:description/>
  <dc:language>en-US</dc:language>
  <cp:lastModifiedBy>Mike</cp:lastModifiedBy>
  <cp:lastPrinted>2005-01-24T07:03:34Z</cp:lastPrinted>
  <dcterms:modified xsi:type="dcterms:W3CDTF">2009-10-17T02:52:31Z</dcterms:modified>
  <cp:revision>164</cp:revision>
  <dc:subject/>
  <dc:title>Mapping the Current State of Web Sites</dc:title>
</cp:coreProperties>
</file>